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AD6-3B8C-41F3-AC0B-1E66320E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722-E2B3-4395-A862-C2AFC690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591-2ECA-4769-AE74-E755FE6D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509-6E7C-4A95-A1C5-B858B240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F05-9016-4815-874C-DBCE0E2A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5A2-F8E4-40BC-B440-ACCF436E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851-45B0-445E-9BD7-4F8F34B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CAA-7D31-4A45-A91A-A716B0A2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0C9-9387-4FD3-ACED-02BF0BB4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B7A-189D-4A00-8BE2-BF159FE2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DEC-F13C-459F-8712-40C8F0B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077-AB23-4FCD-91FD-25FD798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A85-F16B-413E-9CB2-0C9059F013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roblems_with_dirty_oil_in_Madagascar" TargetMode="External"/><Relationship Id="rId2" Type="http://schemas.openxmlformats.org/officeDocument/2006/relationships/hyperlink" Target="http://eewiki.newint.org/index.php/Slavery_in_Mauritania" TargetMode="External"/><Relationship Id="rId3" Type="http://schemas.openxmlformats.org/officeDocument/2006/relationships/hyperlink" Target="http://eewiki.newint.org/index.php/Indonesians_won%27t_stop_fightin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51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much do you know about the worl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Decide a) which country,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b) which global justice iss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for each of the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840" y="260280"/>
            <a:ext cx="29764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020000" y="4033800"/>
            <a:ext cx="1893960" cy="26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3247920" y="333360"/>
            <a:ext cx="317052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162000" y="4923000"/>
            <a:ext cx="273204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6539040" y="260280"/>
            <a:ext cx="24271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3780000" y="4925880"/>
            <a:ext cx="26384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untri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urit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0000" y="11556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justice iss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00720" y="1413000"/>
            <a:ext cx="431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447920" y="2440080"/>
            <a:ext cx="410976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0" descr=""/>
          <p:cNvPicPr/>
          <p:nvPr/>
        </p:nvPicPr>
        <p:blipFill>
          <a:blip r:embed="rId2"/>
          <a:stretch/>
        </p:blipFill>
        <p:spPr>
          <a:xfrm>
            <a:off x="250920" y="144360"/>
            <a:ext cx="353196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5796000" y="2443320"/>
            <a:ext cx="29541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11160" y="3610080"/>
            <a:ext cx="2222280" cy="311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5157720" y="4492800"/>
            <a:ext cx="3746520" cy="22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6"/>
          <a:stretch/>
        </p:blipFill>
        <p:spPr>
          <a:xfrm>
            <a:off x="5506920" y="144360"/>
            <a:ext cx="3243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0920" y="-100080"/>
            <a:ext cx="237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000" y="476280"/>
            <a:ext cx="734364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agas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© Ben Stansall/Alamy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Problems_with_dirty_oil_in_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uritania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300td.org / Creative Commons Licence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Slavery_in_Mauritan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World Development Movement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ewiki.newint.org/index.php/Indonesians_won%27t_stop_figh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tnam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Didem Tali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http://eewiki.newint.org/index.php/%22The_beach_is_for_tourists%22_-_Vietnamese_workers_can%27t_enjoy_the_su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Babu Babu / Reuters)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 http://eewiki.newint.org/index.php/The_rich_in_Ind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eny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Socialstarclub.com under a Creative Commons Licence) 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Read more:  http://eewiki.newint.org/index.php/Women_with_disabilities_have_two_big_problems_%E2%80%93_their_disability_and_their_gen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-42840" y="189000"/>
            <a:ext cx="1654200" cy="105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0" y="1392120"/>
            <a:ext cx="1568520" cy="9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49320" y="5661000"/>
            <a:ext cx="16653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7812000" y="4548240"/>
            <a:ext cx="90828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-144360" y="2492280"/>
            <a:ext cx="187488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9"/>
          <a:stretch/>
        </p:blipFill>
        <p:spPr>
          <a:xfrm>
            <a:off x="-144360" y="3859200"/>
            <a:ext cx="1874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9:59:48Z</dcterms:created>
  <dc:creator>Linda Ruas</dc:creator>
  <dc:description/>
  <dc:language>en-US</dc:language>
  <cp:lastModifiedBy>Linda Ruas</cp:lastModifiedBy>
  <dcterms:modified xsi:type="dcterms:W3CDTF">2014-05-25T11:52:04Z</dcterms:modified>
  <cp:revision>14</cp:revision>
  <dc:subject/>
  <dc:title>Quiz about the world</dc:title>
</cp:coreProperties>
</file>